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yeaahh!.wav" ContentType="audio/x-wav"/>
  <Override PartName="/ppt/media/APPLAUSE.WAV" ContentType="audio/x-wav"/>
  <Override PartName="/ppt/media/woob.wav" ContentType="audio/x-wav"/>
  <Override PartName="/ppt/media/image12.wmf" ContentType="image/x-wmf"/>
  <Override PartName="/ppt/media/boo.wav" ContentType="audio/x-wav"/>
  <Override PartName="/ppt/media/image3.png" ContentType="image/png"/>
  <Override PartName="/ppt/media/image11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3.wmf" ContentType="image/x-wmf"/>
  <Override PartName="/ppt/media/hotdog1.wav" ContentType="audio/x-wav"/>
  <Override PartName="/ppt/media/gethang.wav" ContentType="audio/x-wav"/>
  <Override PartName="/ppt/media/gettingthru.wav" ContentType="audio/x-wav"/>
  <Override PartName="/ppt/media/image16.png" ContentType="image/png"/>
  <Override PartName="/ppt/media/runningeffect.wav" ContentType="audio/x-wav"/>
  <Override PartName="/ppt/media/image17.png" ContentType="image/png"/>
  <Override PartName="/ppt/media/bouncespring.wav" ContentType="audio/x-wav"/>
  <Override PartName="/ppt/media/cryingchild.wav" ContentType="audio/x-wav"/>
  <Override PartName="/ppt/media/image2.png" ContentType="image/png"/>
  <Override PartName="/ppt/media/image10.wmf" ContentType="image/x-wmf"/>
  <Override PartName="/ppt/media/attaboy.wav" ContentType="audio/x-wav"/>
  <Override PartName="/ppt/media/cool.wav" ContentType="audio/x-wav"/>
  <Override PartName="/ppt/media/image4.wmf" ContentType="image/x-wmf"/>
  <Override PartName="/ppt/media/bustbutn.wav" ContentType="audio/x-wav"/>
  <Override PartName="/ppt/media/image1.png" ContentType="image/png"/>
  <Override PartName="/ppt/media/look_good.wav" ContentType="audio/x-wav"/>
  <Override PartName="/ppt/media/image8.wmf" ContentType="image/x-wmf"/>
  <Override PartName="/ppt/media/yes-kramer.wav" ContentType="audio/x-wav"/>
  <Override PartName="/ppt/media/image9.wmf" ContentType="image/x-wmf"/>
  <Override PartName="/ppt/media/image14.png" ContentType="image/png"/>
  <Override PartName="/ppt/media/image5.wmf" ContentType="image/x-wmf"/>
  <Override PartName="/ppt/media/laugh-herman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0A2-DD02-4FA0-BA6D-E83EFDB1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36A-3641-42BF-98EB-39086C53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72D-4EFD-4F9D-BE2D-D5393667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6E5-E86C-452F-A2AA-CF7BCB04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E9F-7450-4074-ACAF-2F2193F0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6E1-F8B2-4F99-8707-ECA2092B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0C9-A7A0-45F3-9A59-08836E3E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930-A407-4C35-A147-4B5EF937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BBC-7B29-4A12-A2EE-9CECC96B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C14-4A47-482F-95AC-D174191B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721-BBBA-46E1-8E55-32B02B3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2EE-CB19-4C8F-9059-C2329CFF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65EE-B153-4E67-864E-212AE08D2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ustbutn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yes-kram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laugh-herma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oo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woob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audio" Target="../media/bouncespring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APPLAUSE.WAV"/><Relationship Id="rId3" Type="http://schemas.openxmlformats.org/officeDocument/2006/relationships/audio" Target="../media/yeaahh!.wav"/><Relationship Id="rId4" Type="http://schemas.openxmlformats.org/officeDocument/2006/relationships/audio" Target="../media/gettingthru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dunet.com/english/grammar/adjectiv.html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gethang.wav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ryingchild.wav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runningeffect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boo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hotdog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Joanne Whit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Connie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553080" y="1371600"/>
            <a:ext cx="207648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 rot="13968600">
            <a:off x="1500840" y="-52920"/>
            <a:ext cx="3398760" cy="4114800"/>
          </a:xfrm>
          <a:prstGeom prst="wedgeEllipseCallout">
            <a:avLst>
              <a:gd name="adj1" fmla="val 64398"/>
              <a:gd name="adj2" fmla="val 688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28800" y="129528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jectiv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stbut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2133720"/>
            <a:ext cx="2895480" cy="8380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colorful butterfly was Evan’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1433520"/>
            <a:ext cx="3809880" cy="3381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14800" y="51055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orful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19720"/>
            <a:ext cx="533160" cy="838080"/>
          </a:xfrm>
          <a:prstGeom prst="upArrow">
            <a:avLst>
              <a:gd name="adj1" fmla="val 50000"/>
              <a:gd name="adj2" fmla="val 392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5943600"/>
            <a:ext cx="83808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s-kra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95680" y="2819520"/>
            <a:ext cx="2590920" cy="144756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06440" y="1066680"/>
            <a:ext cx="271944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7242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rittany wore a pink dres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51055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nk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3058800">
            <a:off x="2157120" y="3938400"/>
            <a:ext cx="2514600" cy="581040"/>
          </a:xfrm>
          <a:prstGeom prst="leftArrow">
            <a:avLst>
              <a:gd name="adj1" fmla="val 50000"/>
              <a:gd name="adj2" fmla="val 1081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5257800"/>
            <a:ext cx="9144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H="1" rot="10401000">
            <a:off x="4800240" y="2742840"/>
            <a:ext cx="2133720" cy="1295280"/>
          </a:xfrm>
          <a:prstGeom prst="wedgeEllipseCallout">
            <a:avLst>
              <a:gd name="adj1" fmla="val -55134"/>
              <a:gd name="adj2" fmla="val 416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72404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16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rankie saw a funny clown at the circu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57913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ny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830800">
            <a:off x="2361960" y="4572000"/>
            <a:ext cx="1981080" cy="762120"/>
          </a:xfrm>
          <a:prstGeom prst="leftArrow">
            <a:avLst>
              <a:gd name="adj1" fmla="val 50000"/>
              <a:gd name="adj2" fmla="val 649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5181480"/>
            <a:ext cx="9907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ugh-her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2971800"/>
            <a:ext cx="3429000" cy="1066680"/>
          </a:xfrm>
          <a:custGeom>
            <a:avLst/>
            <a:gdLst>
              <a:gd name="textAreaLeft" fmla="*/ 753840 w 3429000"/>
              <a:gd name="textAreaRight" fmla="*/ 2675160 w 342900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ilary wore a striped shir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2590560" cy="487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520" y="52578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iped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9991400">
            <a:off x="2590920" y="3352680"/>
            <a:ext cx="3657600" cy="533520"/>
          </a:xfrm>
          <a:prstGeom prst="rightArrow">
            <a:avLst>
              <a:gd name="adj1" fmla="val 50000"/>
              <a:gd name="adj2" fmla="val 1713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029200"/>
            <a:ext cx="83808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1479600"/>
            <a:ext cx="3809880" cy="3136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80024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little baby crawl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1066680"/>
            <a:ext cx="2286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6483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ttle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43000">
            <a:off x="2514600" y="3809520"/>
            <a:ext cx="1828800" cy="60984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4952880"/>
            <a:ext cx="9907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oo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asitie bounced the round basketba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75120" y="1219320"/>
            <a:ext cx="33544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2286000" y="3048120"/>
            <a:ext cx="6267600" cy="1218960"/>
            <a:chOff x="2286000" y="3048120"/>
            <a:chExt cx="6267600" cy="121896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7391520" y="3048120"/>
              <a:ext cx="11620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286000" y="3809880"/>
              <a:ext cx="1905120" cy="228600"/>
            </a:xfrm>
            <a:prstGeom prst="rightArrow">
              <a:avLst>
                <a:gd name="adj1" fmla="val 50000"/>
                <a:gd name="adj2" fmla="val 20834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828800" y="5410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nd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2080" y="4854600"/>
            <a:ext cx="3087720" cy="92160"/>
          </a:xfrm>
          <a:custGeom>
            <a:avLst/>
            <a:gdLst/>
            <a:ahLst/>
            <a:rect l="l" t="t" r="r" b="b"/>
            <a:pathLst>
              <a:path w="1945" h="58">
                <a:moveTo>
                  <a:pt x="0" y="58"/>
                </a:moveTo>
                <a:cubicBezTo>
                  <a:pt x="232" y="42"/>
                  <a:pt x="447" y="30"/>
                  <a:pt x="684" y="25"/>
                </a:cubicBezTo>
                <a:cubicBezTo>
                  <a:pt x="876" y="9"/>
                  <a:pt x="1068" y="6"/>
                  <a:pt x="1261" y="1"/>
                </a:cubicBezTo>
                <a:cubicBezTo>
                  <a:pt x="1399" y="4"/>
                  <a:pt x="1538" y="0"/>
                  <a:pt x="1676" y="9"/>
                </a:cubicBezTo>
                <a:cubicBezTo>
                  <a:pt x="1710" y="11"/>
                  <a:pt x="1741" y="25"/>
                  <a:pt x="1774" y="33"/>
                </a:cubicBezTo>
                <a:cubicBezTo>
                  <a:pt x="1824" y="45"/>
                  <a:pt x="1898" y="41"/>
                  <a:pt x="1945" y="41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5638680"/>
            <a:ext cx="68580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uncesp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djectives answer two ques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4572000"/>
            <a:ext cx="3504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fe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man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ver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o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457200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crunch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bfcf"/>
                </a:solidFill>
                <a:latin typeface="Times New Roman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sma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beauti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0" y="1905120"/>
            <a:ext cx="167652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is the adjective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noun does it tell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blue notebook is clos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00816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5029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jec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6019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214280" y="3139560"/>
            <a:ext cx="5004000" cy="1112040"/>
            <a:chOff x="1214280" y="3139560"/>
            <a:chExt cx="5004000" cy="1112040"/>
          </a:xfrm>
        </p:grpSpPr>
        <p:sp>
          <p:nvSpPr>
            <p:cNvPr id="135" name=""/>
            <p:cNvSpPr/>
            <p:nvPr/>
          </p:nvSpPr>
          <p:spPr>
            <a:xfrm rot="689400">
              <a:off x="3962160" y="3352680"/>
              <a:ext cx="2209680" cy="685800"/>
            </a:xfrm>
            <a:prstGeom prst="rightArrow">
              <a:avLst>
                <a:gd name="adj1" fmla="val 50000"/>
                <a:gd name="adj2" fmla="val 8055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14280" y="3762360"/>
              <a:ext cx="2505240" cy="85680"/>
            </a:xfrm>
            <a:custGeom>
              <a:avLst/>
              <a:gdLst/>
              <a:ahLst/>
              <a:rect l="l" t="t" r="r" b="b"/>
              <a:pathLst>
                <a:path w="1578" h="54">
                  <a:moveTo>
                    <a:pt x="0" y="38"/>
                  </a:moveTo>
                  <a:cubicBezTo>
                    <a:pt x="152" y="0"/>
                    <a:pt x="31" y="27"/>
                    <a:pt x="407" y="38"/>
                  </a:cubicBezTo>
                  <a:cubicBezTo>
                    <a:pt x="467" y="40"/>
                    <a:pt x="526" y="44"/>
                    <a:pt x="586" y="46"/>
                  </a:cubicBezTo>
                  <a:cubicBezTo>
                    <a:pt x="727" y="50"/>
                    <a:pt x="868" y="51"/>
                    <a:pt x="1009" y="54"/>
                  </a:cubicBezTo>
                  <a:cubicBezTo>
                    <a:pt x="1453" y="45"/>
                    <a:pt x="1264" y="46"/>
                    <a:pt x="1578" y="46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305920" y="5715000"/>
            <a:ext cx="3045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aahh!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ettingthr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need more practic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704880" cy="1136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477120" y="152280"/>
            <a:ext cx="2539800" cy="2756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553080" y="4419720"/>
            <a:ext cx="160020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etha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Jester"/>
              </a:rPr>
              <a:t>ADJECTIV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jectives tell about 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nou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ey usually answer 2 ques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609480"/>
            <a:ext cx="20574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24280" y="8380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135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7600" y="44956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91440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1355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7600" y="44956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4572000"/>
            <a:ext cx="49528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1640" y="9144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1355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57600" y="44956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572000"/>
            <a:ext cx="49528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ad litt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5791320"/>
            <a:ext cx="76176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ryingchil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Practi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62520" y="5486400"/>
            <a:ext cx="91440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unningeff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4114800" cy="2363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876560" y="19051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obert had four books on his shelf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3733920"/>
            <a:ext cx="1059120" cy="75960"/>
          </a:xfrm>
          <a:custGeom>
            <a:avLst/>
            <a:gdLst/>
            <a:ahLst/>
            <a:rect l="l" t="t" r="r" b="b"/>
            <a:pathLst>
              <a:path w="667" h="48">
                <a:moveTo>
                  <a:pt x="0" y="0"/>
                </a:moveTo>
                <a:cubicBezTo>
                  <a:pt x="169" y="48"/>
                  <a:pt x="602" y="17"/>
                  <a:pt x="667" y="1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n you find the adjectives and the nouns they descri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2578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8023400">
            <a:off x="3683160" y="4006440"/>
            <a:ext cx="761760" cy="1943280"/>
          </a:xfrm>
          <a:prstGeom prst="upArrow">
            <a:avLst>
              <a:gd name="adj1" fmla="val 50000"/>
              <a:gd name="adj2" fmla="val 63776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6095880"/>
            <a:ext cx="533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ttabo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62320" y="1143000"/>
            <a:ext cx="20574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scary ghost was not smiling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26160" y="1066680"/>
            <a:ext cx="375912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410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ary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9916400">
            <a:off x="4038120" y="49528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5562720"/>
            <a:ext cx="9907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00600" y="3657600"/>
            <a:ext cx="1981080" cy="1752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131840"/>
            <a:ext cx="3809880" cy="3832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4796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essimine looked into the clear ba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10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ear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201400">
            <a:off x="3504960" y="4800240"/>
            <a:ext cx="3429000" cy="588960"/>
          </a:xfrm>
          <a:prstGeom prst="rightArrow">
            <a:avLst>
              <a:gd name="adj1" fmla="val 50000"/>
              <a:gd name="adj2" fmla="val 1455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5257800"/>
            <a:ext cx="99072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tdo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1T00:53:22Z</dcterms:created>
  <dc:creator>Joanne Whitley</dc:creator>
  <dc:description/>
  <dc:language>en-US</dc:language>
  <cp:lastModifiedBy>dyera</cp:lastModifiedBy>
  <dcterms:modified xsi:type="dcterms:W3CDTF">2008-01-07T22:11:46Z</dcterms:modified>
  <cp:revision>6</cp:revision>
  <dc:subject/>
  <dc:title>ADJECTIVES</dc:title>
</cp:coreProperties>
</file>